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5C49-9D27-4D52-8F16-191B2A574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DED8-C023-450C-A353-A5E4DB248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B695-1410-4C33-A489-4E8704A41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64DF-53AC-4DB0-BCDE-6EE4B24C7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42A0-09E0-479D-9423-4D442C740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00D7-8E4B-4A17-8BC9-315D5BEBB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7D5D-7DB3-4E4F-B5F5-79DA95123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83DE-912B-41A0-B889-2F2BB3663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A0B1-69A2-4D97-AD3D-6F9ABAFFB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CD1E-A717-4CC9-8191-4862A3FF6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05A3-7A77-4636-B94B-14E6A01E7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0BE9-272C-478F-8EA6-E2C867EEE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R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R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0890F-1162-421E-B6AB-1FE884E821A6}" type="slidenum">
              <a:rPr b="0" lang="sr-Latn-R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Calibri"/>
              </a:rPr>
              <a:t>Повезаност моторичког и говорног развоја детета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овезаност моторичког и говорног развоја детета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Покрет има велики значај у дечјем развоју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ете покретом стиче прва искуства о себи, о простору у коме се креће, упознаје себе и свет око себе.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Дете се покретима тела  и руку изражава и споразумева, пре и непосредније него речима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Сазнања савремене науке потврђују повезаност покрета и говора, посебно покрета руку и говорног развој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Зато је важно стимулисати моторику детета, нарочито у периоду када се интензивно развија говор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Моторички стимуланси поспешују менталне процесе, дају им снагу и покретљивост. Зато се често наводи да је покрет предуслов за свако учење, па и за усвајање језика и говорни развој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овезаност моторичког и говорног развоја детета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Покрет треба што више укључити у активности васпитно-образовног рада са децом: од покрета љуљања деце на јасленом узрасту, преко покрета који стимулишу развој крупне моторике, вежби за развој фине моторике и покрета рукам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При томе неопходно је познавати, поред општих развојних карактеристика, индивидуалне могућности сваког детет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Мозак детета се развија при покрету а не при мировањ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овезаност моторичког и говорног развоја детета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Период од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 рођења 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до треће године је нарочито значајан за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дете да добија одговарајуће подстицај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Напредак у моторичком развоју детета је видљив на основу појаве нових вештина, самосталнијем кретању детета, стабилнијим покретима, сигурнијим радњама, и друго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Дете не овладава моторичким вештинама усмереним вежбама већ у игр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Дете у 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игр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задовољава своју потребу за кретањем, активно је, а тиме има и више услова да се боље развија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овезаност моторичког и говорног развоја детета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На пример: дете са годину дана зна „таши-таши“, „где је паметна глава“, отвара –затвара фиоке, затварач ставља на флашицу, вади играћке из кутије и враћа их, ухвати велику лопту и докотрља је, окреће листове сликовнице, опонаша шарање, ставља коцке једну у другу, , ређа торањ од коцки, убацује предмете у флашицу, „храни“ лутке, показује „где тека пије воду“, ит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Са три године дете: навија играчке, слаже коцкице у низ, користи прибор за јело, „преноси“ књиге и намештај, чешља се, цепка папириће, гужва салвете, облачи лутке, игре са штипаљкама, обликује пластелином, облачи патофне, препознаје мекане/грубе материјале, ит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Деци су посебно драге игре 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које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су 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прожете су </a:t>
            </a:r>
            <a:r>
              <a:rPr b="1" lang="sr-Latn-RS" sz="2800" spc="-1" strike="noStrike">
                <a:solidFill>
                  <a:srgbClr val="000000"/>
                </a:solidFill>
                <a:latin typeface="Calibri"/>
              </a:rPr>
              <a:t>синкретизмом 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садрже 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спој речи, покрета, песме и елемената глуме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Подстичите дете да изговарајући стихове познате песмице  тапше „дланом о длан“. Дете старијег узраста може да изговарање познате брзалице прати тапшањем или „пуцкетањем прстима“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Понови покре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Ручицама пљас-пљас                             Зубићима клоц-клоц                       Очицама треп-треп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Ножицама трас-трас                               Прстићима боц-бо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есницама туц-туц                                  Усницама цмок -цмо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рстићима пуц-пуц                                 Ножицама скок -ско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15T16:35:55Z</dcterms:created>
  <dc:creator>Mirjana</dc:creator>
  <dc:description/>
  <dc:language>en-US</dc:language>
  <cp:lastModifiedBy>No-01</cp:lastModifiedBy>
  <dcterms:modified xsi:type="dcterms:W3CDTF">2020-02-10T20:26:51Z</dcterms:modified>
  <cp:revision>13</cp:revision>
  <dc:subject/>
  <dc:title>Повезаност моторичког и говорног развоја детета</dc:title>
</cp:coreProperties>
</file>