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D80-D64E-4A33-B1ED-35DF1F6B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640-4766-4684-9115-47A9F4E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EE6-A712-4FE5-8A0F-FE41C320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68B-967C-498C-B971-67A2909A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C1D-D915-4E0D-A5A8-881A71F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531-4E61-4C36-8AF9-A4C5ABC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D10-7142-4550-91EE-34B9E8F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160-2778-463D-8E69-E5B586B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E1-E53F-4F2A-A076-97C9CA0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564-85D5-468C-B95B-1FCF299B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D81-F01B-4275-AAC9-01E6D75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5DB-8BF5-468A-818C-4C0FD88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7B1-08FC-4752-AA38-11BB613CFC78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sr-CS" sz="5400" spc="-1" strike="noStrike">
                <a:solidFill>
                  <a:srgbClr val="000000"/>
                </a:solidFill>
                <a:latin typeface="Calibri Light"/>
              </a:rPr>
              <a:t>Развој гласовне стране говор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4400" spc="-1" strike="noStrike">
                <a:solidFill>
                  <a:srgbClr val="000000"/>
                </a:solidFill>
                <a:latin typeface="Calibri Light"/>
              </a:rPr>
              <a:t>Развој гласовне стране говор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456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оцес стварања гласова назива се артикулациј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лас је најмања језичка јединица, а настаје треперењем ваздуха услед покретања гласних жиц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вербална комуникација детета била разумљива, потребно је да се усвоји правилну артикулацију нашег гласовног система. Наш језик има тридесет гласова, а за сваки од њих постоји само један знак – једно слово (ћирилично писм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страктни појам за глас је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фонема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 слово је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графема</a:t>
            </a: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помена: треба знати да дете опонаша говор оних које во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 Light"/>
              </a:rPr>
              <a:t>Развој гласовне стране гово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52560" y="1184400"/>
            <a:ext cx="105156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оји више подела гласова зависно од тога на основу чега се подела врши. Када се говори о артикулацији, најбитнија је подела гласова према понашању ваздушне стру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кали (самогласници): А, Е, И, О, 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лозиви (преградни):  П, Б, Д, Т, К,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фрикати (сливени): Ц, Ћ, Ђ, Ч, 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рикативи (струјни): Ф, В, С, З, Ш, Ж, Х, Ј, 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али (носни): М, Н, 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терали (бочни): Л, 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 Light"/>
              </a:rPr>
              <a:t>Развој гласовне стране гово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419120"/>
            <a:ext cx="105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говор гласова иде упоредо са развојем говора. Имајући у виду да је говор научено понашање, може се рећи да се артикулација гласова учи. Због тога је јако битно да су говорни и артикулациони подстицаји правилн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 може се очекивати да дете од три године има правилну артикулацију свих тридесет гласова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а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до тог узраста треба да буду формирани вокали, плозиви и наз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дослед јављања осталих група гласова је: фрикативи, африкати и латер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војни пут усвајања артикулације није исти код све деце. Он зависи од више фактора, од којих су најважнији: ментална способност детета, говорна средина детета (првенствено породична), развијеност и здравствено стање говорних органа итд. У науци се сматра да већина деце највећи број гласова (а неки и све) формира од краја четврте године живота. Обично се артикулација гласова формира до поласка у школ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9:46:22Z</dcterms:created>
  <dc:creator>Mirjana</dc:creator>
  <dc:description/>
  <dc:language>en-US</dc:language>
  <cp:lastModifiedBy>No-01</cp:lastModifiedBy>
  <dcterms:modified xsi:type="dcterms:W3CDTF">2020-02-11T12:37:20Z</dcterms:modified>
  <cp:revision>13</cp:revision>
  <dc:subject/>
  <dc:title>Развој гласовне стране говора</dc:title>
</cp:coreProperties>
</file>