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D55-8100-44DB-88AF-A5018A91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12C-24C2-4550-9530-42ACE855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44812-43DF-480B-B307-09C2546C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C4F28-4D28-42E7-96C5-877A5D7A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30D3F-87CC-4840-83DF-60A7897F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AEDF8-765C-48A2-ABDF-49E89031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028EB-E1AA-4AEE-84E9-6F4A2F5C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59076-270B-43EA-9304-291A0D1C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33204-64ED-4EFD-8A97-099AD80B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0ED17-6DF2-4FBD-9210-06A166D0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60948-54EA-4013-8A6D-6AE4193E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79587-D56E-4A25-A849-4B3D36C5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2B02-B9A1-495D-BDE3-82EF6BE6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216FA-AE07-4852-8D98-4ED7B753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9220A-AF8A-4912-B8B4-37F3E194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9B0EA-769E-4C0A-8370-35613DE8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42C39-9133-47E4-913D-F3403F2A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7BAA0-B92F-451B-85CC-E66E397B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1E925-AF53-4D56-8DF4-1C7EB857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D1AAF-7DB7-430F-8B3D-D52B9370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15BDD-2C47-45E8-B780-543522B0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D9A0C-CFA1-4A9D-A975-67E4A6D9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0FE2F-56E7-41DC-B3EC-30EE72F8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6B61-BECE-4875-A84B-83CFE10A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484F0-0FA0-4716-9BD0-82B191F0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C1F1E-D8B5-47D9-950B-C47A220D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DE23F-E481-4111-AA6F-EEA46A15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6E879-B2F9-441D-9ABF-8A112803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6DC32-9EAD-4AE9-A4EF-A6FF2C40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790E6-2259-4C56-9F10-E46309F2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83107-4A9D-49F3-8856-145A2BA5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AA17D-B596-4368-AF02-6718299C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A7CCA-9732-49E0-8BFA-185F21DB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B01C7-5731-40A0-813D-A98F2DF1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4297-568D-4FD4-A451-5B12ED8C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704C6-7840-488F-BB1B-65DCC2EA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FD9AC-CF3D-4F2B-A3D4-D1E4006A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E2277-BD08-4024-8FC7-5F713213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0CD69-4354-44A7-9E78-3B8D9E9A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6FA98-1785-4531-958C-8ED56F1F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C9C0E-B07A-49AE-9417-C95C32CA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1FBB7-6CC0-4707-9547-D96E9ADF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31526-4687-4530-94C3-471D31D3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D2176-4F9A-4CE1-8B02-F3BECAB2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1AB07-917E-43CA-BB07-AC930EA2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DAC0-5CE1-4952-A007-16C6C9F8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899AC-80EF-4CE8-9BAC-234481BC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224A1-55C2-4B95-A6C4-44FF8E08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5C9AB-497B-4220-86DC-E330BE71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F765A-F560-44D8-87F4-5B9DF7D5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1B2DE-F152-46D1-94DD-F1BFE7AA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B1E18-699F-45FB-B2AF-0F0D13AF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ECCC2-7DAC-4EB0-85FA-D08D510A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506F82-011D-4394-BFAF-4FCD31D3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3A31E-35F3-4D6F-B03F-F509D6E4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5899A-81B4-45AA-89D4-029A8130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CD5A-A2B5-4B09-874F-E37EF977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76658C-D521-4E9F-AF72-F7E1C164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940AD-FC45-43EA-B1B1-A3D34C08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4C43B-04A4-4BB1-8B0F-178B8B36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119FD-0759-4E2E-B7D8-EA48709B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D73F2-D0AA-47B1-8CF0-62908955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16CF2-7F3B-4A24-86B1-4D5F3EFE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42745-BD4F-4285-A35F-E407E4B5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21FD59-9698-4C75-AFCB-0AF5C222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32336-69BF-4289-AB84-D30BD22E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3616D-FFC6-4271-B70B-883AAD26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081E-973D-4C51-A1A5-6C160F9B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10C6C-3FD1-4085-B252-42A2245B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193AF-7211-4DB6-B7BC-4A425931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DA2393-6AEB-4EED-B313-BE6ACACD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ADAF33-24DC-43CC-9F04-C1F951C8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CD160-F4F6-4F04-8B6F-BD3A9E7F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A6A6E-AB32-4BBC-B4A0-1869C1EE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092A31-D0A1-468C-9DCA-D51785E8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52800-7A93-4AD9-86AE-C58C239A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517FA3-5AE9-456C-803B-341FDFBD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88372E-D4F4-415F-8D0A-12DE9B17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5789-F57B-481F-B128-CA61027F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6D702-D9A3-479F-B675-AA4538A8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589AF6-CBE1-44DF-9B73-83BC0F58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154E5D-CF7C-4C0B-90F8-BEA55805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F2C026-A9CA-4879-B311-EF850713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4170DC-A1BE-4D79-937E-33E65983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2F5C93-C717-476B-BE65-EA59DDC5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D6ECF-9F56-4427-B979-79A0895F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0CFAB3-5067-461F-82E2-A697C51F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8CA0D-5365-472F-9810-B8FEC0EF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999FC1-46FF-4DCD-A82A-8E069676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8AD8-97EF-426B-AB4B-442126F2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1C52FC-1161-494D-BD7D-752E97A6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259CE6-7BE2-4EA6-ABDE-BE564579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83E127-9467-489C-B3F5-1F0F0693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B17802-9196-4355-B500-DA92E060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825E02-0CC6-433C-855B-5C57AE02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134E37-D2CA-4869-991A-2BD0D824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57789-8BD1-4871-A066-C00D3FB8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19F89F-6E71-4098-B1A7-EC36257D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C84F81-52A1-441E-8DBD-8DF9C8B3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061EDA-D02D-4BE0-9D26-A2570E2D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A4CC-F651-4316-9813-81CB8F6B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D02C0E-C0F0-43B0-9F30-1385D537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B5E168-5B83-4F54-BA61-0BDF2725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F9A0A4-8128-4565-8224-5A497035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E43982-8802-4002-B6C5-74725EB0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2156A6-7D74-4779-924F-30859C48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62F9F2-AE75-4909-A4E3-B855B985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4EF598-27A2-479C-9646-A1A86E3C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7A352E-E275-4A0F-8760-A2415B7F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5AFDC2-ECC5-4AF1-A856-87346239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C9BD60-604A-471D-91B5-10D14D50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95F-88EE-47F8-B220-6C984450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493C-679C-485D-BDB9-B6EE4710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AB4E31-5B02-489B-A0B3-C40D6D54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AB75D2-A7C4-4297-9442-4A8BC76B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03FE63-C365-4765-878D-D7DB1B74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009186-B613-44DE-A769-0C77B100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3EF505-CB0C-47A4-8210-8CBD0246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451B91-46A7-4E44-A805-F88E61B9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4E6DAE-0161-4853-941C-45D7D010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1B083B-E0AA-4476-B28A-12E38EA2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888D1F-6612-4E56-A8F9-BDE11AC5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0893B2-F951-4C99-BEA8-44486CF8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EA8B-19E2-488A-AC8C-365184C1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07113A-6548-4F05-AA53-D7872490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C3DD37-932F-40E0-9703-B3F85953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FBF550-5DCA-46F4-A952-B4B27002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2CEF96-7EAD-4C93-8FC1-0957062E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0D1604-5223-4622-AFF4-A102CAA1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2FA0FC-B631-4046-B004-22E10E5D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848805-4A66-4845-83DB-C0B8DFA2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FBBB-3E93-472E-A05A-0979648B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D942-E6BB-4FBC-8684-96BC5670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640D-A8B1-411B-857A-345B434D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BEC2E-BDF1-45C6-903E-CE3DE814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AC109-7971-4222-A20D-2C213307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4B17B-7DB2-4FCA-9ABF-43437D34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34F55-387F-4343-A5E7-B51B0627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FCA0E-D929-4F4A-A9FB-5B0BE6E4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0E8-7E75-4430-AC47-3A90CFC3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F64E9-D95B-4CE8-9D23-53A99550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1E163-B871-49A4-A68F-7086D1C2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5843B-303C-4AD7-B65A-D26838C1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8EED3-6B60-4045-AE1F-9E9AE51C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3D56C-81F3-41AD-8A60-9372EBA2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6F8C1-6B2D-40C5-AE60-E7019857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8B5F3-C6DC-4C65-875F-EB70C2D9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95704-92C1-488C-8184-9FD32C3D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D90D0-FF89-4B07-BCCF-0453CE60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F3698-29DD-4721-91B6-C61B7AC7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9AE1-0357-465C-9ED5-402CF9D8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FFD76-E2DC-4631-986E-2E898136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A9D2B-2ECD-49FD-B4AE-6CDB018B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4EF26-5676-40C2-A7EA-EC441626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A564E-B0AD-4D3F-A60C-C0F5F768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68C78-22BA-49FB-889A-EC89C63F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783AF-DCA8-4CE2-B9FC-DB7DBE68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A5BC6-A5BD-4463-98D4-84F69827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659D5-FCD4-4435-B048-1EE48E53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D2B51-EC66-43CC-AC46-9A61744B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D77ED-494B-43FE-A591-D84A4143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C738-FCCF-4831-80F9-42FD631C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EACBC-16D3-4FFB-BFEC-69D6E924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6A0E5-D324-43D2-8657-CBB18CA6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2E5AC-8C8E-4535-9163-4520D0FD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BF2FB-3285-4F32-8112-E6E444A1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B68C5-01E3-404B-A210-444EE292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116DC-6D95-428C-A32E-04A8F3A7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5E897-E555-4652-9483-5B70B455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51E46-E710-4AE6-A79E-8302360F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9A63D-BA28-46D0-92FA-F41E062D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D01C2-E20D-4F0A-9F95-40A61712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7FD-A561-4C24-ADC5-549648EF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7E2EE-F231-4077-A7CD-23D1694E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28B0A-8AB9-4D9C-A78D-55FA9E88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7074E-A2CE-497C-B97A-3CB9A9ED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8574B-7175-4C10-8C79-9CA8D097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E2E65-CC01-4C8D-AA0B-DA28CFBC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CAC20-0C64-490D-8B74-ABF6550E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1A1EE-CB70-4C6C-81E4-46492925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45C40-CF1B-45C5-A36B-333C8DB8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B5B93-FE4D-4965-8AEF-C6074ED7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6E7F2-20D6-486D-8518-0850CD6A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E69-AD5F-4143-8FE8-3B656F87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A4719-DAAD-4234-BA56-993A860B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03ECF-76F1-413A-BF73-C52552DA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A352D-93D4-4DD2-B865-E85EE99C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791AD-57F6-4BFF-A007-D3EA7B7E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B3053-2D05-4665-A8F0-F4DFE475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C7036-BD08-4C56-908D-9328BEF5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AE15D-32C5-4BC3-B4D2-7442078F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B98B5-15DF-4943-B6CC-C2E32A8D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494C1-BA9A-4930-BBEC-93A62ECA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29C36-D756-4D15-8C25-DB48A37D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049B-34EF-4E1D-819C-B98B3E28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AE225-C655-4E66-8842-25B3F9D7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D829B-E85C-474A-980A-489EBC61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FB350-D1A1-43A9-8F13-EC5FEDB3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6B26F-1655-4621-9D75-16268338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EFFD3-8DF3-49F7-B0CD-6E28D78F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6932A-D198-49C6-99BD-BF0B7789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599A2-B902-45C0-90C1-E555D8EC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D147A-D0C5-404C-BC29-D33C0A60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47E50-7853-4146-A3AF-FF37FC37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AE40A-AE06-434B-A16D-3245CA52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A76-B068-4AF1-866C-A4907138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B0A26-992B-4E47-BDD9-154270AE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03E6E-14CD-43ED-8F5A-EF0FBF00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12537-6594-4F9F-A52A-884C403F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690F2-2E22-4E98-9BC1-AABA8F90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EB35A-3897-4047-A00B-3DD2AB9F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FDF20-8D73-40A5-B8D3-A4A29A05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A611E-EAA9-4BE0-90F8-D7CFE83A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E2359-308E-475D-B3EC-1C5FE35B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01A02-1A4D-4F8B-BBAD-F9643D9F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94A9B-CC40-4207-A9E7-07C2CDD4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2E80B-F483-433A-88DA-4CAF0AB57C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7960F-6641-47A2-B2F5-01DB9881F3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E8610-4B9C-4D68-958D-D9D1321FAC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0BED2-F7E1-41D1-B364-95FEA42CEE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81151-4907-41C1-8F76-23943F026F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944CD-0CDE-4B11-A702-BD29CB37B9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DA856-609D-4DCC-A11C-E2AC47BAF1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871C7-9ECC-47F7-9734-FF6DBAF1F3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9B2035-DD60-4881-A750-AF30DAECCC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CDED94-602C-488C-A710-A7097293AB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CD2E7-425F-4427-A0B6-61481B8FAB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782C8-5DE6-42C7-8170-D823A1375A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2FCAE-234B-4A48-BEB7-B6C2A5CDBE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49EE8-5C9D-4430-B0EC-F7BD677D9B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B6A89-D0F4-4C60-BB52-A5E17CC723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0A6FA-51E7-4AD9-8020-978B68211F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32B8A5-B3EE-4657-B3B0-4A48AE5E38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CB221-98CC-43BE-B016-56046B1C0D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1299960"/>
            <a:ext cx="8690040" cy="25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ВЕРБАЛНО  И НЕВЕРБАЛНО  ИЗРАЖАВАЊЕ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1750680" y="3886200"/>
            <a:ext cx="86900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2200" spc="-1" strike="noStrike">
              <a:solidFill>
                <a:srgbClr val="7f7f7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ВЕРБАЛНО  И НЕВЕРБАЛНО  ИЗРАЖАВАЊЕ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914040" y="1906200"/>
            <a:ext cx="1036332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ГОВОР ДЕТЕТА ПРЕДШКОЛСКОГ УЗРАСТА ОСТВАРУЈЕ НА ДВА ОСНОВНА НАЧИНА: ВЕРБАЛНО И НЕВЕРБАЛНО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ВЕРБАЛНО ЈЕ ИЗРАЖАВАЊЕ РЕЧИМ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НЕВЕРБАЛНО ИЛИ ГОВОР ТЕЛА КАКО СЕ ЈОШ НАЗИВА, УЧЕСТВУЈЕ У ПРЕНОШЕЊУ ПОРУКА РАЗНОВРСНИМ И БРОЈНИМ ЗНАЦИМА, КАО ШТО СУ: ГЕСТИКУЛАЦИЈА, МИМИКА И ТЕЛЕСНИ СТАВ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ВЕРБАЛНОЈ КОМУНИКАЦИЈИ ПРЕТХОДИ НЕВЕРБАЛН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ДА БИ ДЕТЕ ИЗГОВОРИЛО ПРВЕ РЕЧИ, ТРЕБА ДА ПРЕЂЕ ДУГ ПУТ РАЗВОЈА КОМУНИКАЦИЈСКИХ СПОСОБНОСТИ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ВЕРБАЛНО  И НЕВЕРБАЛНО  ИЗРАЖАВАЊЕ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НЕВЕРБАЛНО ИЗРАЖАВАЊЕ ЈЕ ПРИСУТНО ОД САМОГ ПОЧЕТКА ДЕЧЈЕГ РАЗВОЈА, ДОК ДЕТЕ НИЈЕ РАЗВИЛО ГОВОР И УСВОЈИЛО ЈЕЗИК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ПАЖАМО ДА ДЕТЕ У ПОЧЕТКУ КОМУНИЦИРА ПОГЛЕДОМ, ПОКРЕТОМ, ДОДИРОМ, ОСМЕХОМ, ПЛАЧЕМ, И ДР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ШТО ЈЕ ДЕТЕ МЛАЂЕ, НЕВЕРБАЛНО ИЗРАЖАВАЊЕ ЈЕ ИЗРАЖЕНИЈЕ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ЕРБАЛНО  И НЕВЕРБАЛНО  ИЗРАЖАВАЊЕ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914040" y="1662120"/>
            <a:ext cx="103633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КРЕТИКОЈИ ЧИНЕ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ИЗРАЗ ЛИЦА (МИМИКУ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) СПОНТАНО ИЗРАЖАВАЈУ ОСЕЋАЊА И СТАВОВЕ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ГЕСТОВ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ОБУХВАТАЈУ ПОКРЕТЕ НОГУ, РУКУ, ГЛАВЕ И ЦЕЛОГ ТЕЛА. ВЕОМА СУ ЗНАЧАЈНИ КАО ПРАТЕЋИ ЕЛЕМЕНТИ ПРИЛИКОМ ГОВОРЕЊА, МАДА ЧЕСТО ИМАЈУ И САМОСТАЛНУ ВРЕДНОСТ КАДА СЕ ГЕСТИКУЛАЦИЈОМ  ИЗРАЖАВА ОНО ШТО СЕ НЕ МОЖЕ ИСКАЗАТИ РЕЧИМ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ОД СВИХ ГЕСТОВА СМАТРА СЕ ДА СУ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КРЕТИ РУКУ НАЈУЧЕСТАЛИЈИ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(НА ПРИМЕР: ДЕТЕ ПРУЖА РУЧИЦЕ, ГРЛИ, ДОДИРУЈЕ, ДРЖИ ПРСТИЋ У УСТИМА, ДРЖИ СЕ РУКОМ ЗА УХО, ТРЉА ОЧИ, ШАЉЕ ПОЉУБАЦ, ШИРИ РУКЕ, ИТД). МАДА НОГЕ НЕМАЈУ ЗНАЧАЈНИЈУ УЛОГУ У НЕВЕРБАЛНОЈ КОМУНИКАЦИЈИ, ДОПРИНОСЕ ОПШТЕМ УТИСКУ НА ОСНОВУ ТОГА КАКО ДЕТЕ СТОЈИ, СЕДИ, ПРЕМЕШТА СЕ С НОГЕ НА НОГУ, ЛУПКА НОГОМ, „ВУЧЕ“ НОГЕ, ПОСКАКУЈЕ, СКАЧЕ И СЛ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040" y="618840"/>
            <a:ext cx="1022508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НЕВЕРБАЛНО  ИЗРАЖАВАЊЕ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914040" y="1647720"/>
            <a:ext cx="103633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РЕЧНИК ГОВОРА ТЕЛА НИЈЕ СИРОМАШАН, ПА СВАКИ ВАСПИТАЧ ТРЕБА ДА ДОПРИНЕСЕ УПОЗНАВАЊУ ПОСЕБНОСТИ НЕВЕРБАЛНОГ ГОВОРА ДЕЦЕ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ДОБРО ОСМИШЉЕНЕ АКТИВНОСТИ, АКО СУ ПРИЛАГОЂЕНЕ ДЕТЕТУ, МОГУ БИТИ ИЗВОР ДЕЧЈЕ КРЕАТИВНОСТИ И  ЕКСПРЕСИВНОСТИ. НАВЕДИМО  НЕКЕ: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КАКО СЕ СВЕ МОЖЕМО ПОЗДРАВИТИ ( ДЕЦА  ПОКРЕТИМА ИМИТИРАЈУ РАЗЛИЧИТЕ НАЧИНЕ ПОЗДРАВА) 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КАКО СЕДИМО  (ДЕЦА ОПОНАШАЈУ НАЧИНЕ СЕДЕЊА)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КАКО СЕ КО КРЕЋЕ (ОПОНАШАЊЕ КРЕТАЊА ЉУДИ, ЖИВОТИЊА, И ДР)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ОТКРИЈ ШТА САД РАДИМ ( ПОДРАЖАВАЊЕ РАДЊИ ИЛИ ЗАНИМАЊА ЉУДИ)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ШТА ВАМ ПОРУЧУЈЕМ ( ДЕЦА ТУМАЧЕ ПОРУКЕ ВАСПИТАЧИЦЕ: ПРСТ НА УСТИМА, ВРТИ ГЛАВОМ, ОДМАХУЈЕ РУКОМ, ПОЗИВА РУКОМ ДА ДОЂУ, РУКА НА ЧЕЛУ, ТЕЛЕФОНИРА, И ДР)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14040" y="618840"/>
            <a:ext cx="102646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НЕВЕРБАЛНО  ИЗРАЖАВАЊЕ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914040" y="1609560"/>
            <a:ext cx="1036332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w Cen MT"/>
              </a:rPr>
              <a:t>ПОКРЕТИМА ДОЧАРАВАМО ПОЗНАТИ ТЕКСТ (НА ПРИМЕР, ЗМАЈЕВУ ПЕСМИЦУ „ПЕРА КАО ДОКТОР“ ДЕЦА ТРЕБА ИЗРАЗЕ НЕВЕРБАЛНИМ ПОКРЕТИМА; ДРУГА ГРУПА ДЕЦЕ ПОСМАТРА И ПОГАЂА О КОЈОЈ ЈЕ ПЕСМИЦИ РЕЧ 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w Cen MT"/>
              </a:rPr>
              <a:t>ОЖИВИМО СЛИКУ (УЗ ПОМОЋ ВАСПИТАЧА ДЕЦА ОДАБЕРУ СЛИКУ КОЈА ПРИКАЗУЈЕ ВИШЕ ЉУДИ КОЈИ НЕШТО РАДЕ. ДЕЦА У ИГРИ УЛОГА ИСКЉУЧИВО ПОКРЕТИМА ДОЧАРАВАЈУ ПРИЗОР НА ОСНОВУ ОНОГА ШТО ВИДЕ НА СЛИЦИ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w Cen MT"/>
              </a:rPr>
              <a:t>ОГЛЕДАЛО (ВЕЖБА СЕ ИЗВОДИ У ПАРУ: ЈЕДНО ДЕТЕ ИЗВОДИ МИМИЧКЕ ПОКРЕТЕ А ДРУГО ДЕТЕ ЈЕ „ОГЛЕАЛО“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w Cen MT"/>
              </a:rPr>
              <a:t>ПОРУКЕ ПУТУЈУ (ЈЕДНА ГРУПА ДЕЦЕ ОСМИШЉАВА ПОРУКУ И УПУЋУЈЕ ЈЕ ДРУГОЈ ГРУПИ НЕВЕРБАЛНИМ СРЕДСТВИМА. НАПОМЕНА: ДЕЦА МОГУ КОРИСТИТИ И ПРЕДМЕТЕ, ЦРТЕЖ, И ДР)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w Cen MT"/>
              </a:rPr>
              <a:t>ЗАМИСЛИТЕ: У НЕПОЗНАТОЈ СТЕ ЗЕМЉИ А ТРЕБА ДА ПИТАТЕ: ГДЕ ЈЕ ЗУБАР? ГДЕ ЈЕ ВРТИЋ? ПЕКАРА?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w Cen MT"/>
              </a:rPr>
              <a:t>ДОЧАРАЈТЕ ПОКРЕТИМА ТЕЛА НЕКЕ ОД НАВЕДЕНИХ РЕЧЕНИЦА (ПОСПАН САМ; НЕ РАЗУМЕМ; СМРДИ; ВЕСЕО САМ; СМЕШНО МИ ЈЕ; ДРАГА СИ МИ; ДОСАДНО МИ ЈЕ; ЖУРИМ ИТД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w Cen MT"/>
              </a:rPr>
              <a:t>КАД ТИГАР ЗАРЕЖИ –БЕЖИ  (НЕ САМО ЉУДИ ВЕЋ И БИЉКЕ И ЖИВОТИЊЕ ПОКРЕТИМА, ЗВУЦИМА, МИРИСИМА И БОЈОМ  МЕЂУСОБНО РАЗМЕЊУЈУ ПОРУКЕ. ЗНАМО КАКО ИЗГЛЕДА БИЉКА КАД ЈЕ ЖЕДНА,  ШТА ПОРУЧУЈЕ НАКОСТРЕШЕНА МАЧКА,  ПАС КОЈИ РЕЖИ И ЛАЈЕ, ПАУН РАШИРЕНОГ РЕПА, КРЕКЕТАЊЕ ЖАБА… ДЕЦА НАСТАВЉАЈУ ЗАПОЧЕТИ НИЗ НАВОДЕЋИ ШТА ГОВОРЕ ОБЛИЦИ НЕВЕРБАЛНЕ КОМУНИКАЦИЈЕ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5T15:08:56Z</dcterms:created>
  <dc:creator>Mirjana</dc:creator>
  <dc:description/>
  <dc:language>en-US</dc:language>
  <cp:lastModifiedBy>No-01</cp:lastModifiedBy>
  <dcterms:modified xsi:type="dcterms:W3CDTF">2020-02-10T20:24:30Z</dcterms:modified>
  <cp:revision>18</cp:revision>
  <dc:subject/>
  <dc:title>Вербално  и невербално  изражавање</dc:title>
</cp:coreProperties>
</file>